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18122"/>
        <c:axId val="75635307"/>
      </c:barChart>
      <c:catAx>
        <c:axId val="81318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35307"/>
        <c:crosses val="autoZero"/>
        <c:auto val="1"/>
        <c:lblAlgn val="ctr"/>
        <c:lblOffset val="100"/>
        <c:noMultiLvlLbl val="0"/>
      </c:catAx>
      <c:valAx>
        <c:axId val="75635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18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EAA-2E9A-4528-912D-9654A01F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C9A-D6F1-4DF3-A2A6-77A4FA30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561-6DCD-4EA2-A700-58BA6EDB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7B5-7390-4787-A07E-61B16734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86F-8F77-437B-8015-CBC0A212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CEF-F71E-4F0C-B48E-708E98F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2F6-8C81-456A-9F84-C4039C64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3EB-2CA1-431C-911A-EBF53074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587-EC06-467A-B50D-4F59B01E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DDE-F5EE-426F-A977-FECB060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426-F024-43E0-A477-2861E7D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A42-79AE-4907-8379-994DB25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1BF64-573C-4D46-B4C1-9EF6400001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