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81157"/>
        <c:axId val="79999889"/>
      </c:barChart>
      <c:catAx>
        <c:axId val="52381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99889"/>
        <c:crosses val="autoZero"/>
        <c:auto val="1"/>
        <c:lblAlgn val="ctr"/>
        <c:lblOffset val="100"/>
        <c:noMultiLvlLbl val="0"/>
      </c:catAx>
      <c:valAx>
        <c:axId val="79999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81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078-F212-4162-90AF-F10BA185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399-C1CD-4039-8800-87B664B6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8C6-04FF-431B-BC9F-E97E53A9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AD5-2383-45AD-BBF8-F0717019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3BB-2E77-4784-B493-68BFC721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97D-82C6-4B43-86B1-FF82F922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126-D213-4937-AA3B-BF04CF42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9E3-CAEA-4D2E-B796-2972B0AB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86D-654C-4549-9CBB-480A540B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77A-580D-4EF6-B67A-E9816000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D35-C569-4B27-AB65-11CA037E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921-1F6E-4020-81EB-35248674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AB10F-83AD-449B-B11B-CC2662A53E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